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6ED-5AC3-41C0-898F-FC790B64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B60-B9E0-4793-A887-5733AD5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205-0A6B-4C2E-9AA3-C58BA38F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D38-DA17-40EB-A7F4-8BDFB530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EEB-E006-45D7-89FA-BF2299A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69D-9E18-453B-B5F1-CD298199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A97-3939-4F4F-9236-3E475D18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835-4EEB-453D-B6E0-B411C3C1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EE-741B-4749-8755-A83F17EB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CF4-4582-4E1F-9DC1-8586612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012-F89A-4BE2-AF58-B9EF3B4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933-CB0C-40BA-A8E2-32EA7D3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02A-18FA-43BF-BCF4-4A9FAE22871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Gothic"/>
              </a:rPr>
              <a:t>Автор: Печерская Ю.А.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студентка 4 курса филологического факультета КГП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2010 г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487440"/>
            <a:ext cx="460872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MCj04337970000[1]"/>
          <p:cNvPicPr/>
          <p:nvPr/>
        </p:nvPicPr>
        <p:blipFill>
          <a:blip r:embed="rId1"/>
          <a:stretch/>
        </p:blipFill>
        <p:spPr>
          <a:xfrm>
            <a:off x="3000240" y="2357280"/>
            <a:ext cx="39290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45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4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entury Gothic"/>
                </a:rPr>
                <a:t>Основополагающий </a:t>
              </a:r>
              <a:br>
                <a:rPr sz="4000"/>
              </a:br>
              <a:r>
                <a:rPr b="0" lang="en-US" sz="4000" spc="-1" strike="noStrike">
                  <a:solidFill>
                    <a:srgbClr val="ff0000"/>
                  </a:solidFill>
                  <a:latin typeface="Century Gothic"/>
                </a:rPr>
                <a:t>вопрос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акова сущность Божественн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илы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000"/>
                  </a:solidFill>
                  <a:latin typeface="Century Gothic"/>
                </a:rPr>
                <a:t>Проблемные</a:t>
              </a:r>
              <a:br>
                <a:rPr sz="4000"/>
              </a:br>
              <a:r>
                <a:rPr b="0" lang="en-US" sz="4000" spc="-1" strike="noStrike">
                  <a:solidFill>
                    <a:srgbClr val="ffc000"/>
                  </a:solidFill>
                  <a:latin typeface="Century Gothic"/>
                </a:rPr>
                <a:t>вопросы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акие существуют религи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Почему люди начинают верить в Богов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ого и что можно обожествлять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акими бывают Бог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Чем управляют языческие Бог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68200" y="115920"/>
            <a:ext cx="8967960" cy="2462040"/>
            <a:chOff x="268200" y="115920"/>
            <a:chExt cx="8967960" cy="246204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6796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4680"/>
              <a:ext cx="825804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entury Gothic"/>
                </a:rPr>
                <a:t>Результаты исследования могут быть представлены в виде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Газе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Бюллетен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entury Gothic"/>
              </a:rPr>
              <a:t>Web</a:t>
            </a: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-сай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Сочинения, эсс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Презентационного докла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Подтемы:</a:t>
              </a:r>
              <a:endParaRPr b="0" lang="en-US" sz="4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Добрые Бог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Богини Древнего Егип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Демон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Священные животны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Мифы о Богах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Храмы Бого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Ритуальные обряд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Century Gothic"/>
                </a:rPr>
                <a:t>Продолжительность проекта:</a:t>
              </a:r>
              <a:br>
                <a:rPr sz="4000"/>
              </a:br>
              <a:r>
                <a:rPr b="0" lang="en-US" sz="4000" spc="-1" strike="noStrike">
                  <a:solidFill>
                    <a:srgbClr val="ffffff"/>
                  </a:solidFill>
                  <a:latin typeface="Century Gothic"/>
                </a:rPr>
                <a:t>2-4 недели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64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84360"/>
            <a:ext cx="8358120" cy="45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Заголовок 1"/>
          <p:cNvGrpSpPr/>
          <p:nvPr/>
        </p:nvGrpSpPr>
        <p:grpSpPr>
          <a:xfrm>
            <a:off x="237960" y="128520"/>
            <a:ext cx="8936280" cy="1803600"/>
            <a:chOff x="237960" y="128520"/>
            <a:chExt cx="8936280" cy="1803600"/>
          </a:xfrm>
        </p:grpSpPr>
        <p:pic>
          <p:nvPicPr>
            <p:cNvPr id="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37960" y="128520"/>
              <a:ext cx="893628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876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</a:rPr>
                <a:t>Информационные</a:t>
              </a:r>
              <a:br>
                <a:rPr sz="4000"/>
              </a:b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</a:rPr>
                <a:t>ресурсы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Учебники по МХ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Энциклопед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Научные журналы, газе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Сайты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2travel.co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olog.r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izuchaem.inf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god.r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godsbay.ru/egyp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34:29Z</dcterms:created>
  <dc:creator>XTreme</dc:creator>
  <dc:description/>
  <dc:language>en-US</dc:language>
  <cp:lastModifiedBy>студент</cp:lastModifiedBy>
  <dcterms:modified xsi:type="dcterms:W3CDTF">2010-04-02T10:40:34Z</dcterms:modified>
  <cp:revision>14</cp:revision>
  <dc:subject/>
  <dc:title>Слайд 1</dc:title>
</cp:coreProperties>
</file>